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155-21BA-460A-AC80-3AA09621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75D-0596-40BC-BF1E-7164EBD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72E-752C-4712-8CEC-3ECCC635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F21-E72C-4C14-8578-12C903B5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E4A-1C25-47E8-B722-7E3F9FFA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719-B7DF-47ED-99C3-DC7D47CA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8CD-06D8-4B2E-AFD2-2FA33FF4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C54-B3A6-406B-B66C-67C8E7FA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794-C8BF-4781-8FBD-C6A0CB78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F20-9C81-4D92-B4B4-7B1A56D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F8E-3C84-4179-90D6-CBAB9A9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B1A-A60F-4201-9445-E13FB94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1C15-5BC1-4FC2-84AD-8F2EC6EA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4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Ty, Pane, zosta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ň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 nami le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, Pane, zostaň s nami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a už stmieva, hasne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tiesn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priek n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t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as tvojej tváre svieti n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Slovo tvoje v tento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šík bratsk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mkne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ridá viery, nových sí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y zbor náš n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voj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Duch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sväť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riprav na ten slávny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ost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kvie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 tvárou v tvá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ceme 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05:07Z</dcterms:modified>
  <cp:revision>22</cp:revision>
  <dc:subject/>
  <dc:title>Je veľký náš Pán, on slávy je Kráľ Nech do všetkých strán  spev vrúcnych znie chvál.</dc:title>
</cp:coreProperties>
</file>